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10.pct" ContentType="image/x-pict"/>
  <Override PartName="/ppt/media/camera.wav" ContentType="audio/x-wav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2.png" ContentType="image/png"/>
  <Override PartName="/ppt/media/image13.pct" ContentType="image/x-pict"/>
  <Override PartName="/ppt/media/image3.png" ContentType="image/png"/>
  <Override PartName="/ppt/media/image14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073-1123-46B9-8DFD-FD3881CA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FEB-5FC3-4513-AE8B-32787948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257-8827-4123-8EDF-64B563E1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AD8-7FB0-4662-9837-9C5F8D4B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BFC3-F00B-4DA2-8B80-F44488F8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667F-2015-4BC7-8027-958B7C31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6B9D-3626-44AB-B82C-E8E7D0FE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655E-CB34-4151-A430-362505B0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8E30-B445-40E0-9D5A-D10563A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1F0D-C2C8-47BF-87BC-3B5A0859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ADFE-A660-4404-A8B5-7C84E68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12D-0163-4E10-AC9C-66DA8A85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BD58-2C22-49C9-9731-A2ED9B17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8418-B2D9-43FF-BD78-C99B83CC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429F-256F-4EC6-84FF-C74C5E37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FAA4-DADD-4AAA-B16D-3D266B67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F977-912D-4146-9530-71E00880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6B8-F72D-4863-9B50-239C6C9E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1E5-5A5F-4293-9051-3C927001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B64-8A59-4DBF-96B0-AB8CEDEF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B23-BCA9-4382-83E6-76C42330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D51-C2BE-4FB5-8925-4B9CD12A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6F6-CADC-4D8C-BBEF-07B2EEA8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14B-8139-4466-80A1-4E1DB252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C1D-AEC2-496A-91E7-963D97A0FBA7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9E93-DB81-412A-B5EE-27311A5F6F68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ct"/><Relationship Id="rId3" Type="http://schemas.openxmlformats.org/officeDocument/2006/relationships/image" Target="../media/image15.pct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image" Target="../media/image20.pct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Comic Sans MS"/>
              </a:rPr>
              <a:t>How to write a story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764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6633"/>
                </a:solidFill>
                <a:latin typeface="Times New Roman"/>
              </a:rPr>
              <a:t>First you have to…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 who the characters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is going to be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rt of characters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08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3814920"/>
            <a:ext cx="2556000" cy="249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95480" y="4876920"/>
            <a:ext cx="11336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68544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Next consider …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nd when your story is going to take pl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called the se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33720" y="4343400"/>
            <a:ext cx="137448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24280" y="4038480"/>
            <a:ext cx="2212920" cy="122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095880" y="1981080"/>
            <a:ext cx="2590920" cy="184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38480" y="5638680"/>
            <a:ext cx="144792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4419720"/>
            <a:ext cx="10670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Pa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5715000"/>
            <a:ext cx="175284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Time for the Problem…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going to happen in your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ain ev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story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213372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72200" y="4495680"/>
            <a:ext cx="1981080" cy="194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38280" y="2286000"/>
            <a:ext cx="24386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Include Important Even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mmary of what happens in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s in th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known as the p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90920" y="4572000"/>
            <a:ext cx="1831680" cy="1841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77120" y="2133720"/>
            <a:ext cx="2247840" cy="1753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410080" y="3962520"/>
            <a:ext cx="1567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Finally ….the Solution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all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is 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e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ppy? S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2406600" cy="193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657600" y="4267080"/>
            <a:ext cx="194796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905120" cy="1789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 flipH="1" rot="10800000">
            <a:off x="2286000" y="4191120"/>
            <a:ext cx="108576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Think about …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238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57913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3366"/>
                </a:solidFill>
                <a:latin typeface="Poor Richard"/>
              </a:rPr>
              <a:t>These will help you to know 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8-07-19T03:52:46Z</dcterms:modified>
  <cp:revision>3</cp:revision>
  <dc:subject/>
  <dc:title>How to write a story</dc:title>
</cp:coreProperties>
</file>